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25080" y="456048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802040" y="8915400"/>
            <a:ext cx="2300400" cy="403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1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Draft Rev. 1 -- Do Not Cite or Quote</a:t>
            </a:r>
            <a:endParaRPr b="0" lang="en-US" sz="1100" spc="-1" strike="noStrike">
              <a:solidFill>
                <a:srgbClr val="000000"/>
              </a:solidFill>
              <a:latin typeface="Times New Roman"/>
            </a:endParaRPr>
          </a:p>
        </p:txBody>
      </p:sp>
      <p:sp>
        <p:nvSpPr>
          <p:cNvPr id="50" name="PlaceHolder 5"/>
          <p:cNvSpPr>
            <a:spLocks noGrp="1"/>
          </p:cNvSpPr>
          <p:nvPr>
            <p:ph type="sldNum" idx="5"/>
          </p:nvPr>
        </p:nvSpPr>
        <p:spPr>
          <a:xfrm>
            <a:off x="382680" y="8991720"/>
            <a:ext cx="1542960" cy="38088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AEBAD32E-8A7C-4B7A-85AE-7826175BFE9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95120" y="891540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73EE51D8-75C6-43A9-8890-75E8446FA3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4" name="PlaceHolder 1"/>
          <p:cNvSpPr>
            <a:spLocks noGrp="1"/>
          </p:cNvSpPr>
          <p:nvPr>
            <p:ph type="sldImg"/>
          </p:nvPr>
        </p:nvSpPr>
        <p:spPr>
          <a:xfrm>
            <a:off x="1295280" y="685800"/>
            <a:ext cx="4800600" cy="3600360"/>
          </a:xfrm>
          <a:prstGeom prst="rect">
            <a:avLst/>
          </a:prstGeom>
          <a:ln w="0">
            <a:noFill/>
          </a:ln>
        </p:spPr>
      </p:sp>
      <p:sp>
        <p:nvSpPr>
          <p:cNvPr id="1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RP Rule requires that you, the Certified Renovator, be responsible for instruction of non-certified renovation workers.</a:t>
            </a:r>
            <a:endParaRPr b="0" lang="en-US" sz="1000" spc="-1" strike="noStrike">
              <a:solidFill>
                <a:srgbClr val="000000"/>
              </a:solidFill>
              <a:latin typeface="Arial"/>
            </a:endParaRPr>
          </a:p>
          <a:p>
            <a:pPr lvl="1"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Note:  See Slide 2-11 and HUD regulations for more information on the training required for workers on HUD funded renovations.</a:t>
            </a:r>
            <a:endParaRPr b="0" lang="en-US" sz="1000" spc="-1" strike="noStrike">
              <a:solidFill>
                <a:srgbClr val="000000"/>
              </a:solidFill>
              <a:latin typeface="Arial"/>
            </a:endParaRPr>
          </a:p>
          <a:p>
            <a:pPr lvl="1"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49"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0057C676-3D9A-4BC0-85AE-09C7BC0C5C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lnSpc>
                <a:spcPct val="100000"/>
              </a:lnSpc>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000" spc="-1" strike="noStrike">
                <a:solidFill>
                  <a:srgbClr val="000000"/>
                </a:solidFill>
                <a:latin typeface="Arial"/>
                <a:ea typeface="Times New Roman"/>
              </a:rPr>
              <a:t>On a daily basis, pick up the work area (recommend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ick up as you go. Put trash in heavy-duty plastic bag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cuum the work area with a HEPA vacuum several times during the day and for sure at the end of the day. </a:t>
            </a:r>
            <a:r>
              <a:rPr b="0" lang="en-US" sz="1000" spc="-1" strike="noStrike">
                <a:solidFill>
                  <a:srgbClr val="000000"/>
                </a:solidFill>
                <a:latin typeface="Arial"/>
              </a:rPr>
              <a:t>Use only HEPA vacuums</a:t>
            </a:r>
            <a:r>
              <a:rPr b="0" lang="en-US" sz="1000" spc="-1" strike="noStrike">
                <a:solidFill>
                  <a:srgbClr val="000000"/>
                </a:solidFill>
                <a:latin typeface="Arial"/>
                <a:ea typeface="Times New Roman"/>
              </a:rPr>
              <a:t>. Do not use </a:t>
            </a:r>
            <a:r>
              <a:rPr b="0" lang="en-US" sz="1000" spc="-1" strike="noStrike">
                <a:solidFill>
                  <a:srgbClr val="000000"/>
                </a:solidFill>
                <a:latin typeface="Arial"/>
              </a:rPr>
              <a:t>standard household or shop vacuum cleaner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ean tools at the end of the da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sh your hands each time you leave the work area and especially well before you go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spose of all disposable personal protective clothing daily. </a:t>
            </a:r>
            <a:endParaRPr b="0" lang="en-US" sz="1000" spc="-1" strike="noStrike">
              <a:solidFill>
                <a:srgbClr val="000000"/>
              </a:solidFill>
              <a:latin typeface="Arial"/>
            </a:endParaRPr>
          </a:p>
          <a:p>
            <a:pPr indent="0">
              <a:spcBef>
                <a:spcPts val="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 the job is complete, clean the work area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ke sure all paint chips, dust, trash and debris, including building components, are removed from the area to be cleaned and disposed of properl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efully remove plastic sheeting on the floor, fold it with the dirty side in, tape the edges shut or seal it in a heavy duty plastic bag, and dispose of it. Keep plastic sheeting in doorways and openings that separate the work area from non-work areas in place until the work area is released as clea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PA vacuum or wet wipe all wall surfaces. HEPA vacuum all other surfaces in the work area. Use a beater bar attachment on carpe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t wipe all remaining surfaces in the work area and wet mop all uncarpeted floors until dust, debris and residue are remov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ly inspect your work. Look around the work area and pathways where debris was carried, both inside and out. You should see no dust, debris or residu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lean the area thoroughly if you find dust, debris or residu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4"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9E663F60-5C51-42DA-A25E-566F4727319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914040" y="4571640"/>
            <a:ext cx="54118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g or wrap your waste at the work site and in the work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lect and control all your waste. This includes dust, debris, paint chips, protective sheeting, HEPA filters, dirty water, clothes, mop heads, wipes, protective clothing, respirators, gloves, architectural components, and other waste. Use heavy plastic sheeting or bags to collect waste. Gooseneck seal the bag with duct tape. Consider double bagging waste to prevent tears. Large components should be wrapped in protective sheeting and sealed with tape.</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Bag and seal all waste before removing it from the work area. HEPA vacuum the exterior of waste bags and bundles before removing them from the work area. Store all waste that has been collected from renovation activities preventing access to and release of dust and debr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spose of waste water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er used in the work area to remove paint or to clean surfaces should be filtered. Never dump this water down a sink or tub, in a storm drain, or on the ground. It may be dumped in a toilet if local rules allow. If local regulations do not allow this, you may be required to contain and test the water, and contact a waste disposal company to assist you with disposal. </a:t>
            </a:r>
            <a:r>
              <a:rPr b="1" lang="en-US" sz="1000" spc="-1" strike="noStrike">
                <a:solidFill>
                  <a:srgbClr val="000000"/>
                </a:solidFill>
                <a:latin typeface="Arial"/>
                <a:ea typeface="Arial"/>
              </a:rPr>
              <a:t>Check with your local water treatment authority, and in Federal and state regulations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Be aware of waste disposal rules.</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onsiders most renovation, repair and painting activities in residential housing to be “routine residential maintenance.” The waste generated by these activities is classified as solid, non-hazardous waste and can be disposed of in an ordinary waste landfill (see Appendix 8 and www.epa.gov/lead/pubs/fslbp.htm). Some states and localities have more stringent waste disposal requirements that must be followed.</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9"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3D37F247-5588-4E51-B6D8-2302A06C552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61" name="PlaceHolder 1"/>
          <p:cNvSpPr>
            <a:spLocks noGrp="1"/>
          </p:cNvSpPr>
          <p:nvPr>
            <p:ph type="sldImg"/>
          </p:nvPr>
        </p:nvSpPr>
        <p:spPr>
          <a:xfrm>
            <a:off x="1219320" y="685800"/>
            <a:ext cx="4800600" cy="3600360"/>
          </a:xfrm>
          <a:prstGeom prst="rect">
            <a:avLst/>
          </a:prstGeom>
          <a:ln w="0">
            <a:noFill/>
          </a:ln>
        </p:spPr>
      </p:sp>
      <p:sp>
        <p:nvSpPr>
          <p:cNvPr id="162" name="PlaceHolder 2"/>
          <p:cNvSpPr>
            <a:spLocks noGrp="1"/>
          </p:cNvSpPr>
          <p:nvPr>
            <p:ph type="body"/>
          </p:nvPr>
        </p:nvSpPr>
        <p:spPr>
          <a:xfrm>
            <a:off x="839880" y="4419720"/>
            <a:ext cx="5790960" cy="4572000"/>
          </a:xfrm>
          <a:prstGeom prst="rect">
            <a:avLst/>
          </a:prstGeom>
          <a:noFill/>
          <a:ln w="0">
            <a:noFill/>
          </a:ln>
        </p:spPr>
        <p:txBody>
          <a:bodyPr lIns="96480" rIns="96480" tIns="48240" bIns="48240" anchor="t">
            <a:noAutofit/>
          </a:bodyPr>
          <a:p>
            <a:pPr indent="0">
              <a:spcBef>
                <a:spcPts val="125"/>
              </a:spcBef>
              <a:buNone/>
              <a:tabLst>
                <a:tab algn="l" pos="0"/>
                <a:tab algn="l" pos="34308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all the cleaning is complete, and before the space is reoccupied, a cleaning verification procedure or clearance examination must be conducted to make sure leaded dust is not left behind. If the HUD Rule applies, a clearance examination is required in place of the cleaning verification procedure. </a:t>
            </a:r>
            <a:r>
              <a:rPr b="0" lang="en-US" sz="1000" spc="-1" strike="noStrike">
                <a:solidFill>
                  <a:srgbClr val="000000"/>
                </a:solidFill>
                <a:latin typeface="Arial"/>
                <a:ea typeface="Times New Roman"/>
              </a:rPr>
              <a:t>Before conducting either cleaning verification or clearance examination, the Certified Renovator performs a visual inspection of the work area. The HUD regulations also require a person trained in visual inspection, who is independent of the renovation firm, to perform a visual inspection as part of a clearance examination.</a:t>
            </a:r>
            <a:r>
              <a:rPr b="0" lang="en-US" sz="1000" spc="-1" strike="noStrike">
                <a:solidFill>
                  <a:srgbClr val="000000"/>
                </a:solidFill>
                <a:latin typeface="Arial"/>
                <a:ea typeface="Arial"/>
              </a:rPr>
              <a:t> If dust, debris or residue are present in the work area, cleaning must be repeated and the visual inspection repeated until the work area is free of dust, debris and residue. After the project passes visual inspection by the Certified Renovator (and, for HUD-regulated projects, by the independent trained person), either the cleaning verification procedure or clearance examination can proceed.</a:t>
            </a:r>
            <a:endParaRPr b="0" lang="en-US" sz="1000" spc="-1" strike="noStrike">
              <a:solidFill>
                <a:srgbClr val="000000"/>
              </a:solidFill>
              <a:latin typeface="Arial"/>
            </a:endParaRPr>
          </a:p>
          <a:p>
            <a:pPr indent="0">
              <a:spcBef>
                <a:spcPts val="374"/>
              </a:spcBef>
              <a:buNone/>
              <a:tabLst>
                <a:tab algn="l" pos="0"/>
                <a:tab algn="l" pos="343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F5B03779-06D3-45B5-8450-EC40DC22580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all the skills you mastered during the Skill Set exercises? You will be teaching non-certified renovators to master them.</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at follows are presented to aid you in conduct of the training.</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i="1" lang="en-US" sz="1000" spc="-1" strike="noStrike">
                <a:solidFill>
                  <a:srgbClr val="000000"/>
                </a:solidFill>
                <a:latin typeface="Arial"/>
              </a:rPr>
              <a:t>Steps to LEAD SAFE Renovation, Repair, and Painting </a:t>
            </a:r>
            <a:r>
              <a:rPr b="0" lang="en-US" sz="1000" spc="-1" strike="noStrike">
                <a:solidFill>
                  <a:srgbClr val="000000"/>
                </a:solidFill>
                <a:latin typeface="Arial"/>
              </a:rPr>
              <a:t>contains a shopping list of materials and supplies needed for setting up containment, clean the work area, protect yourself during work, and verify that the work area is clean. These shopping lists or another similar list must be reviewed prior to on-the-job training to make sure all of the materials needed for work are available. Failure to gather all supplies and equipment will delay on-the-job training and related work.</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5A805BE8-F880-428B-9317-FA70BCB1400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4" name="PlaceHolder 1"/>
          <p:cNvSpPr>
            <a:spLocks noGrp="1"/>
          </p:cNvSpPr>
          <p:nvPr>
            <p:ph type="sldImg"/>
          </p:nvPr>
        </p:nvSpPr>
        <p:spPr>
          <a:xfrm>
            <a:off x="1295280" y="685800"/>
            <a:ext cx="4800600" cy="3600360"/>
          </a:xfrm>
          <a:prstGeom prst="rect">
            <a:avLst/>
          </a:prstGeom>
          <a:ln w="0">
            <a:noFill/>
          </a:ln>
        </p:spPr>
      </p:sp>
      <p:sp>
        <p:nvSpPr>
          <p:cNvPr id="115" name="PlaceHolder 2"/>
          <p:cNvSpPr>
            <a:spLocks noGrp="1"/>
          </p:cNvSpPr>
          <p:nvPr>
            <p:ph type="body"/>
          </p:nvPr>
        </p:nvSpPr>
        <p:spPr>
          <a:xfrm>
            <a:off x="534600" y="4419720"/>
            <a:ext cx="6248520" cy="4495680"/>
          </a:xfrm>
          <a:prstGeom prst="rect">
            <a:avLst/>
          </a:prstGeom>
          <a:noFill/>
          <a:ln w="0">
            <a:noFill/>
          </a:ln>
        </p:spPr>
        <p:txBody>
          <a:bodyPr lIns="96480" rIns="96480" tIns="48240" bIns="48240" anchor="t">
            <a:noAutofit/>
          </a:bodyPr>
          <a:p>
            <a:pPr marL="2095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What Are the Responsibilities of a Certified Renovator? </a:t>
            </a:r>
            <a:r>
              <a:rPr b="0" lang="en-US" sz="1000" spc="-1" strike="noStrike">
                <a:solidFill>
                  <a:srgbClr val="000000"/>
                </a:solidFill>
                <a:latin typeface="Arial"/>
                <a:ea typeface="Times New Roman"/>
              </a:rPr>
              <a:t>Certified Renovators are responsible for ensuring overall compliance with Renovation, Repair, and Painting Program requirements for lead-safe work practices at renovations to which they are assigned.</a:t>
            </a:r>
            <a:endParaRPr b="0" lang="en-US" sz="1000" spc="-1" strike="noStrike">
              <a:solidFill>
                <a:srgbClr val="000000"/>
              </a:solidFill>
              <a:latin typeface="Arial"/>
            </a:endParaRPr>
          </a:p>
          <a:p>
            <a:pPr marL="2095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 Certified Renovator:</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use an EPA-recognized test kit or, alternatively, collect a paint chip sample for analysis when requested by the party contracting for renovation services, to determine whether components to be affected by the renovation contain lead-based paint.</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ovide lead-safe work practices training to non-certified workers so those workers can perform assigned tasks safely. This training can be provided by the Certified Renovator on-the-job or in the classroom, provided adequate hands-on practice is available. This training could also be conducted by a third party although the instructor must be a Certified Renovator.</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physically present at the work site when warning signs are posted, while the work area containment is being established, and while the work area cleaning is performed. (</a:t>
            </a:r>
            <a:r>
              <a:rPr b="0" i="1" lang="en-US" sz="1000" spc="-1" strike="noStrike">
                <a:solidFill>
                  <a:srgbClr val="000000"/>
                </a:solidFill>
                <a:latin typeface="Arial"/>
                <a:ea typeface="Times New Roman"/>
              </a:rPr>
              <a:t>Note: Use the terms </a:t>
            </a:r>
            <a:r>
              <a:rPr b="1" i="1" lang="en-US" sz="1000" spc="-1" strike="noStrike">
                <a:solidFill>
                  <a:srgbClr val="000000"/>
                </a:solidFill>
                <a:latin typeface="Arial"/>
                <a:ea typeface="Times New Roman"/>
              </a:rPr>
              <a:t>Setup</a:t>
            </a:r>
            <a:r>
              <a:rPr b="0" i="1" lang="en-US" sz="1000" spc="-1" strike="noStrike">
                <a:solidFill>
                  <a:srgbClr val="000000"/>
                </a:solidFill>
                <a:latin typeface="Arial"/>
                <a:ea typeface="Times New Roman"/>
              </a:rPr>
              <a:t> and </a:t>
            </a:r>
            <a:r>
              <a:rPr b="1" i="1" lang="en-US" sz="1000" spc="-1" strike="noStrike">
                <a:solidFill>
                  <a:srgbClr val="000000"/>
                </a:solidFill>
                <a:latin typeface="Arial"/>
                <a:ea typeface="Times New Roman"/>
              </a:rPr>
              <a:t>Cleanup</a:t>
            </a:r>
            <a:r>
              <a:rPr b="0" i="1" lang="en-US" sz="1000" spc="-1" strike="noStrike">
                <a:solidFill>
                  <a:srgbClr val="000000"/>
                </a:solidFill>
                <a:latin typeface="Arial"/>
                <a:ea typeface="Times New Roman"/>
              </a:rPr>
              <a:t> to describe this work</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monitor work being performed by non-certified individuals to ensure that lead-safe work practices are being followed. This includes maintaining the integrity of the containment barriers and ensuring that no dust or debris migrates from the work area. </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available, either on-site or by telephone, at all times during performance of the renovation. </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erform project cleaning verification. </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have copies of their initial course completion certificate and their most recent refresher course completion certificate at the work site. Certification as a Certified Renovator lasts for 5 years. The Certified Renovator must take a refresher course every 5 years in order to maintain certification.</a:t>
            </a:r>
            <a:endParaRPr b="0" lang="en-US" sz="1000" spc="-1" strike="noStrike">
              <a:solidFill>
                <a:srgbClr val="000000"/>
              </a:solidFill>
              <a:latin typeface="Arial"/>
            </a:endParaRPr>
          </a:p>
          <a:p>
            <a:pPr lvl="1" marL="460440" indent="-23832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epare required records. </a:t>
            </a: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PA RRP Rule requirements are found at 40 CFR 745.85 (a) and (b).</a:t>
            </a: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6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E97432C9-6E8A-44AD-9EE3-FD256DDB4C0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9" name="PlaceHolder 1"/>
          <p:cNvSpPr>
            <a:spLocks noGrp="1"/>
          </p:cNvSpPr>
          <p:nvPr>
            <p:ph type="sldImg"/>
          </p:nvPr>
        </p:nvSpPr>
        <p:spPr>
          <a:xfrm>
            <a:off x="1295280" y="685800"/>
            <a:ext cx="4800600" cy="3600360"/>
          </a:xfrm>
          <a:prstGeom prst="rect">
            <a:avLst/>
          </a:prstGeom>
          <a:ln w="0">
            <a:noFill/>
          </a:ln>
        </p:spPr>
      </p:sp>
      <p:sp>
        <p:nvSpPr>
          <p:cNvPr id="120" name="PlaceHolder 2"/>
          <p:cNvSpPr>
            <a:spLocks noGrp="1"/>
          </p:cNvSpPr>
          <p:nvPr>
            <p:ph type="body"/>
          </p:nvPr>
        </p:nvSpPr>
        <p:spPr>
          <a:xfrm>
            <a:off x="687240" y="4495320"/>
            <a:ext cx="5911920" cy="44960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the-job training must be provided for each non-certified renovator and for each job to the extent that each non-certified renovator is adequately trained for the tasks he or she will be performing. This training may occur while the non-certified renovator is engaged in productive work, which provides knowledge and skills essential to the full and adequate performance of the job. However, work conducted during training must be in full compliance with the RRP Rule.</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es will benefit by seeing the “Steps” to lead safety found in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in Appendix 5 (this document is also referred to as the “</a:t>
            </a:r>
            <a:r>
              <a:rPr b="0" i="1" lang="en-US" sz="1000" spc="-1" strike="noStrike">
                <a:solidFill>
                  <a:srgbClr val="000000"/>
                </a:solidFill>
                <a:latin typeface="Arial"/>
              </a:rPr>
              <a:t>Steps Guide</a:t>
            </a:r>
            <a:r>
              <a:rPr b="0" lang="en-US" sz="1000" spc="-1" strike="noStrike">
                <a:solidFill>
                  <a:srgbClr val="000000"/>
                </a:solidFill>
                <a:latin typeface="Arial"/>
              </a:rPr>
              <a:t>”). It contains a seven step primer on lead safety and can be used as a field text to hand out to non-certified renovator in the field. In the “Steps Guide”, steps 2 through 6 contain information specific to work performed by non-certified personnel, while step 1 and step 7 contain information on testing painted surfaces and cleaning verification which are Certified Renovator responsibilities. Step 7 also discusses clearance examination which is performed only by Certified Lead Inspectors, Certified Lead Risk Assessors, and Certified Dust Sampling Technici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in the “Steps Guide” can be covered in about 5 minutes per Step and then reinforced by on-the-job practical exercises such as setting up barriers and signs, demonstrations of cleaning procedures, etc. It is recommended that the material in the “Steps Guide” be covered in a toolbox (on-site) meeting format with handouts on the specific information to be co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very important that non-certified renovators be allowed to participate in hands-on learning as work progresses and that skill sets that are learned by each non-certified renovator are documented. Documentation is required by the RRP Rule to assure that non-certified renovators are trained to perform renovation activities to which they are assigned. Remember that the RRP Rule requires all non-certified renovators on the job to be given skills training specific to the tasks that they will perform on the job and that each non-certified renovator’s training must be documented by topic area covered in the on-the-job training that is performed. The required documentation will be discussed in more detail later.</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CF8FFDDE-FF78-4BF2-B41A-59FB8105A75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4" name="PlaceHolder 1"/>
          <p:cNvSpPr>
            <a:spLocks noGrp="1"/>
          </p:cNvSpPr>
          <p:nvPr>
            <p:ph type="sldImg"/>
          </p:nvPr>
        </p:nvSpPr>
        <p:spPr>
          <a:xfrm>
            <a:off x="1295280" y="685800"/>
            <a:ext cx="4800600" cy="3600360"/>
          </a:xfrm>
          <a:prstGeom prst="rect">
            <a:avLst/>
          </a:prstGeom>
          <a:ln w="0">
            <a:noFill/>
          </a:ln>
        </p:spPr>
      </p:sp>
      <p:sp>
        <p:nvSpPr>
          <p:cNvPr id="125" name="PlaceHolder 2"/>
          <p:cNvSpPr>
            <a:spLocks noGrp="1"/>
          </p:cNvSpPr>
          <p:nvPr>
            <p:ph type="body"/>
          </p:nvPr>
        </p:nvSpPr>
        <p:spPr>
          <a:xfrm>
            <a:off x="794880" y="4560480"/>
            <a:ext cx="58834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for non-certified renovators can be delivered in one session covering all 7 Steps or the information can be covered in a series of “toolbox” meetings over the course of several days. You should spend about 5-10 minutes on the information contained in each “Step” and then conduct on-the-job training to teach the skills needed to renovate lead safely.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training is offered in the classroom, Slides 8-5 through 8-12 could be used to teach the material found in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This document is included as Appendix 5 of your student manual. Use the </a:t>
            </a:r>
            <a:r>
              <a:rPr b="1" i="1" lang="en-US" sz="1000" spc="-1" strike="noStrike">
                <a:solidFill>
                  <a:srgbClr val="000000"/>
                </a:solidFill>
                <a:latin typeface="Arial"/>
              </a:rPr>
              <a:t>Steps to LEAD SAFE Renovation, Repair, and Painting </a:t>
            </a:r>
            <a:r>
              <a:rPr b="0" lang="en-US" sz="1000" spc="-1" strike="noStrike">
                <a:solidFill>
                  <a:srgbClr val="000000"/>
                </a:solidFill>
                <a:latin typeface="Arial"/>
              </a:rPr>
              <a:t>as a student handout for training non-certified renovators. The handout should also include write-ups of demonstrations and practical hands-on exercises, and a checklist of desired skills to reinforce the “toolbox” talks or classroom training. During either “toolbox” talks or classroom instruction, have non-certified renovators refer to the training handout while you teach th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efore You Train:</a:t>
            </a:r>
            <a:r>
              <a:rPr b="0" lang="en-US" sz="1000" spc="-1" strike="noStrike">
                <a:solidFill>
                  <a:srgbClr val="000000"/>
                </a:solidFill>
                <a:latin typeface="Arial"/>
              </a:rPr>
              <a:t> Print copies of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r>
              <a:rPr b="0" lang="en-US" sz="1000" spc="-1" strike="noStrike">
                <a:solidFill>
                  <a:srgbClr val="000000"/>
                </a:solidFill>
                <a:latin typeface="Arial"/>
              </a:rPr>
              <a:t>and give one copy to each non-certified renovator</a:t>
            </a:r>
            <a:r>
              <a:rPr b="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2FFA2E7F-EF4E-4A4B-92FA-DEACAB0B884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9" name="PlaceHolder 1"/>
          <p:cNvSpPr>
            <a:spLocks noGrp="1"/>
          </p:cNvSpPr>
          <p:nvPr>
            <p:ph type="sldImg"/>
          </p:nvPr>
        </p:nvSpPr>
        <p:spPr>
          <a:xfrm>
            <a:off x="1295280" y="685800"/>
            <a:ext cx="4800600" cy="3600360"/>
          </a:xfrm>
          <a:prstGeom prst="rect">
            <a:avLst/>
          </a:prstGeom>
          <a:ln w="0">
            <a:noFill/>
          </a:ln>
        </p:spPr>
      </p:sp>
      <p:sp>
        <p:nvSpPr>
          <p:cNvPr id="130" name="PlaceHolder 2"/>
          <p:cNvSpPr>
            <a:spLocks noGrp="1"/>
          </p:cNvSpPr>
          <p:nvPr>
            <p:ph type="body"/>
          </p:nvPr>
        </p:nvSpPr>
        <p:spPr>
          <a:xfrm>
            <a:off x="914040" y="4343040"/>
            <a:ext cx="5716440" cy="431964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uring Training:</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the information on this slide with the non-certified renovators as they follow along on pages 4 &amp; 5 of the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s to the On-The-Job Instructor:</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nformation is included in the on-the-job training so non-certified renovators will understand why they need to use lead-safe work practices. Non-certified renovators are not allowed to determine whether lead-based paint is present, but they should understand that when it is identified as present, generating dust can cause significant problems if not properly and safely controlled.</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re informatio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ages 4 and 5 of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2FD77961-DAF4-49E8-8E3A-FA804E681B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874800" y="4485960"/>
            <a:ext cx="5486400" cy="450540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To Do</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keep the dust in, and people out, of your work area, you will need to take slightly different steps for inside or outside jobs.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ce signs, barrier tape, and/or cones to keep all non-workers, especially children, out of the work area. Keep pets out of the work area for their safety and to prevent them from tracking dust and debris throughout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ove furniture and belongings from the work area. If an item is too large or too heavy to move, cover it with heavy plastic sheeting and tape the sheeting securely in plac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heavy plastic sheeting to cover floors in the work area 6 ft. or more our from the surface being renovated. Close and seal doors, close window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and cover air vents in the work area. This will keep dust from getting into the system and moving through the home.</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Out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ep non-workers away from the work area by marking it off with signs, tape and/or cones. Have owners keep pets out of the work area.</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ver the ground and plants with heavy plastic sheeting to catch debris. The covering should extend at least 10 feet out from the building, unless a property line prevents 10 feet of such ground cover ,in which case the firm must erect vertical containment. Secure the covering to the exterior.</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windows and doors within 20 feet of the work area to keep dust and debris from going into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ve (if possible) or cover play areas and equipment within 20 feet of the work are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7"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0741774E-0714-4522-8010-52765692EF7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8"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39" name="PlaceHolder 1"/>
          <p:cNvSpPr>
            <a:spLocks noGrp="1"/>
          </p:cNvSpPr>
          <p:nvPr>
            <p:ph type="sldImg"/>
          </p:nvPr>
        </p:nvSpPr>
        <p:spPr>
          <a:xfrm>
            <a:off x="1295280" y="685800"/>
            <a:ext cx="4800600" cy="3600360"/>
          </a:xfrm>
          <a:prstGeom prst="rect">
            <a:avLst/>
          </a:prstGeom>
          <a:ln w="0">
            <a:noFill/>
          </a:ln>
        </p:spPr>
      </p:sp>
      <p:sp>
        <p:nvSpPr>
          <p:cNvPr id="140" name="PlaceHolder 2"/>
          <p:cNvSpPr>
            <a:spLocks noGrp="1"/>
          </p:cNvSpPr>
          <p:nvPr>
            <p:ph type="body"/>
          </p:nvPr>
        </p:nvSpPr>
        <p:spPr>
          <a:xfrm>
            <a:off x="991800" y="4419720"/>
            <a:ext cx="5713560" cy="44956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protective clothing</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ve clothing and shoe covers are very important in preventing “take home” lead and to prevent you from tracking lead out of the work area</a:t>
            </a:r>
            <a:r>
              <a:rPr b="0" lang="en-US" sz="1000" spc="-1" strike="noStrike">
                <a:solidFill>
                  <a:srgbClr val="000000"/>
                </a:solidFill>
                <a:latin typeface="Arial"/>
              </a:rPr>
              <a:t>. They can also help prevent contamination of areas that have already been cleaned during final cleanup.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lothes clean. At the end of the work day, vacuum off dust or change out of dusty clothes. Do not use compressed air to blow dust off clothing. Wash dirty work clothes separately from household laundry.</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r a painter’s hat to protect your head from dust and debr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respiratory protection</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ork creates dust or paint chips, employers should consider respiratory protection, such as a N-100 disposable respirator, to prevent workers from breathing leaded d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sh up</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should wash their hands and faces each time they stop work. It is especially important to wash up before eating and at the end of the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a:solidFill>
                  <a:srgbClr val="000000"/>
                </a:solidFill>
                <a:latin typeface="Arial"/>
                <a:ea typeface="Times New Roman"/>
              </a:rPr>
              <a:t>ote: OSHA rules may require employers to take further steps to protect the health of workers on the job.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42" name="Rectangle 7"/>
          <p:cNvSpPr/>
          <p:nvPr/>
        </p:nvSpPr>
        <p:spPr>
          <a:xfrm>
            <a:off x="382680" y="8991720"/>
            <a:ext cx="1542960" cy="38088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7-</a:t>
            </a:r>
            <a:fld id="{D239DB30-ACF4-4B48-AFB9-2D3BEBAEC92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3" name="Rectangle 8"/>
          <p:cNvSpPr/>
          <p:nvPr/>
        </p:nvSpPr>
        <p:spPr>
          <a:xfrm>
            <a:off x="2895480" y="891540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44" name="PlaceHolder 1"/>
          <p:cNvSpPr>
            <a:spLocks noGrp="1"/>
          </p:cNvSpPr>
          <p:nvPr>
            <p:ph type="sldImg"/>
          </p:nvPr>
        </p:nvSpPr>
        <p:spPr>
          <a:xfrm>
            <a:off x="1295280" y="685800"/>
            <a:ext cx="4800600" cy="3600360"/>
          </a:xfrm>
          <a:prstGeom prst="rect">
            <a:avLst/>
          </a:prstGeom>
          <a:ln w="0">
            <a:noFill/>
          </a:ln>
        </p:spPr>
      </p:sp>
      <p:sp>
        <p:nvSpPr>
          <p:cNvPr id="145" name="PlaceHolder 2"/>
          <p:cNvSpPr>
            <a:spLocks noGrp="1"/>
          </p:cNvSpPr>
          <p:nvPr>
            <p:ph type="body"/>
          </p:nvPr>
        </p:nvSpPr>
        <p:spPr>
          <a:xfrm>
            <a:off x="762120" y="4419720"/>
            <a:ext cx="6021360" cy="439560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the spread of dus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the work area closed off from the rest of the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rack dust and debris out of the work area.</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in the contained work area and on the contained path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um off suits when exiting the work area so the dust stays inside containm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disposable shoe covers and make sure your shoes are clean by using tack pads or damp paper towels to wipe off your shoes each time you step off the protective sheeting.</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omponents in the work area until they are wrapped securely in heavy plastic sheeting or bagged in heavy duty plastic bags. Once wrapped or bagged, HEPA vacuum the exterior and remove them from the work area and store them in a safe area away from residen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der non-disposable protective clothing separate from family laundr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use Prohibited Practices, including:</a:t>
            </a:r>
            <a:endParaRPr b="0" lang="en-US" sz="10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n-flame burning or high heat removal of paint; and</a:t>
            </a:r>
            <a:endParaRPr b="0" lang="en-US" sz="11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tools such as sanders without HEPA attachments.</a:t>
            </a:r>
            <a:endParaRPr b="0" lang="en-US" sz="1100" spc="-1" strike="noStrike">
              <a:solidFill>
                <a:srgbClr val="000000"/>
              </a:solidFill>
              <a:latin typeface="Arial"/>
            </a:endParaRPr>
          </a:p>
          <a:p>
            <a:pPr indent="0">
              <a:lnSpc>
                <a:spcPct val="100000"/>
              </a:lnSpc>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146" name="Text Box 4"/>
          <p:cNvSpPr/>
          <p:nvPr/>
        </p:nvSpPr>
        <p:spPr>
          <a:xfrm>
            <a:off x="685800" y="7315200"/>
            <a:ext cx="5715000" cy="85320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prohibited by EPA’s RRP Rul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use of heat guns that char pain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147" name="Picture 5" descr="HUD-seal-color 300 DPI"/>
          <p:cNvPicPr/>
          <p:nvPr/>
        </p:nvPicPr>
        <p:blipFill>
          <a:blip r:embed="rId1"/>
          <a:stretch/>
        </p:blipFill>
        <p:spPr>
          <a:xfrm>
            <a:off x="798480" y="7427880"/>
            <a:ext cx="712800" cy="684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2847C-D851-4ECB-83D7-9C6F22B18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540DF-D402-4EA9-BD3A-192D03A5F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7DCDC-BDFE-4235-8467-A50F83F8E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F9F2C-E515-4B0B-AACA-B1D5D9B57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C3433-DCCF-40FC-BBF7-15104062F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047A3-D9C6-466A-A0DD-44691D480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6172E-D2DD-4103-980D-B47821F4D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D25F8-7939-456B-9E1F-885632F38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5A6AD-4D91-4BB8-8506-B105D93AA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BCE2C-0AE3-4201-AF2B-123841D2F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8873-5F05-47CE-8A76-CF6CAB15B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71889-A01C-469B-82D9-5645FC728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10FE5A6A-66AF-4996-87A1-25DA8313F50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545A0353-B1E0-44A3-BD88-DA572209694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920" y="228240"/>
            <a:ext cx="8534160" cy="11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7: Training Non-Certified Renovators</a:t>
            </a:r>
            <a:endParaRPr b="1" lang="en-US" sz="4000" spc="-1" strike="noStrike">
              <a:solidFill>
                <a:srgbClr val="000099"/>
              </a:solidFill>
              <a:latin typeface="Arial"/>
            </a:endParaRPr>
          </a:p>
        </p:txBody>
      </p:sp>
      <p:sp>
        <p:nvSpPr>
          <p:cNvPr id="55" name="PlaceHolder 2"/>
          <p:cNvSpPr>
            <a:spLocks noGrp="1"/>
          </p:cNvSpPr>
          <p:nvPr>
            <p:ph/>
          </p:nvPr>
        </p:nvSpPr>
        <p:spPr>
          <a:xfrm>
            <a:off x="380520" y="2057040"/>
            <a:ext cx="8458200" cy="3962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Certified Renovators are responsible for teaching lead-safe work practices to non-certified renovators.</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0"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AC867386-4881-4CA5-8CA1-FB1EA649A3E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5: Leave the Work Area Clean</a:t>
            </a:r>
            <a:endParaRPr b="1" lang="en-US" sz="4000" spc="-1" strike="noStrike">
              <a:solidFill>
                <a:srgbClr val="000099"/>
              </a:solidFill>
              <a:latin typeface="Arial"/>
            </a:endParaRPr>
          </a:p>
        </p:txBody>
      </p:sp>
      <p:sp>
        <p:nvSpPr>
          <p:cNvPr id="92"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should be to leave the work area completely free of dust, debris and residu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daily cleaning procedur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end of job cleaning procedur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6FEEA4B5-C554-4E0A-97B5-E42FA994E55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6: Control the Waste</a:t>
            </a:r>
            <a:endParaRPr b="1" lang="en-US" sz="4000" spc="-1" strike="noStrike">
              <a:solidFill>
                <a:srgbClr val="000099"/>
              </a:solidFill>
              <a:latin typeface="Arial"/>
            </a:endParaRPr>
          </a:p>
        </p:txBody>
      </p:sp>
      <p:sp>
        <p:nvSpPr>
          <p:cNvPr id="96"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he waste bagging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monstrate folding a small section of plastic with the dirty side turned i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emporary storage of wast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how to deal with waste water appropriate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aste disposal rules that apply to the specific job.</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14F8F1C9-41B6-4D3E-9756-81E97470D1F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7: Cleaning Verification or Clearance Testing</a:t>
            </a:r>
            <a:endParaRPr b="1" lang="en-US" sz="4000" spc="-1" strike="noStrike">
              <a:solidFill>
                <a:srgbClr val="000099"/>
              </a:solidFill>
              <a:latin typeface="Arial"/>
            </a:endParaRPr>
          </a:p>
        </p:txBody>
      </p:sp>
      <p:sp>
        <p:nvSpPr>
          <p:cNvPr id="100"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will be performed by a Certified Renovator after most renovation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rance examination may be requested in place of cleaning verification by the owner.</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rance examination is required in many pre-1978 properties receiving Federal housing assistanc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hat happens when cleaning verification and/or clearance is not passed.</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08AEAAB5-073E-4941-9CFB-4C7B35B9ED2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457200" y="5331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aching Lead Safe Work Practices Means</a:t>
            </a:r>
            <a:endParaRPr b="1" lang="en-US" sz="4000" spc="-1" strike="noStrike">
              <a:solidFill>
                <a:srgbClr val="000099"/>
              </a:solidFill>
              <a:latin typeface="Arial"/>
            </a:endParaRPr>
          </a:p>
        </p:txBody>
      </p:sp>
      <p:sp>
        <p:nvSpPr>
          <p:cNvPr id="59"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ing non-certified renovators to properly use signs, dust barriers, dust minimizing work practices, and dust cleanup practices during the course of renovation, repair, and painting activities to prevent and/or reduce potentially dangerous dust-lead contamination in the home.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effectively train non-certified renovators you need to:</a:t>
            </a:r>
            <a:endParaRPr b="1" lang="en-US" sz="24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now lead safety yourself.</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 non-certified renovators what you know.</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view “shopping list” and have materials at hand.</a:t>
            </a:r>
            <a:endParaRPr b="0" lang="en-US" sz="20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24D06A4E-1755-49B6-BEE7-0CBCA94A182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Role of the Certified Renovator</a:t>
            </a:r>
            <a:endParaRPr b="1" lang="en-US" sz="4000" spc="-1" strike="noStrike">
              <a:solidFill>
                <a:srgbClr val="000099"/>
              </a:solidFill>
              <a:latin typeface="Arial"/>
            </a:endParaRPr>
          </a:p>
        </p:txBody>
      </p:sp>
      <p:sp>
        <p:nvSpPr>
          <p:cNvPr id="63" name="PlaceHolder 2"/>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ertified Renovator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rform lead safe work as described in the RRP Rule (Sections 40 CFR 745.85 (a) and (b)).</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 all non-certified renovators in lead safe practice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vide onsite and regular direction for all non-certified workers during setup and cleanup.</a:t>
            </a:r>
            <a:endParaRPr b="1" lang="en-US" sz="2400" spc="-1" strike="noStrike">
              <a:solidFill>
                <a:srgbClr val="000099"/>
              </a:solidFill>
              <a:latin typeface="Arial"/>
            </a:endParaRPr>
          </a:p>
          <a:p>
            <a:pPr marL="343080" indent="-343080">
              <a:lnSpc>
                <a:spcPct val="90000"/>
              </a:lnSpc>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Are available by phone when not physically present at the work site during work.</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intain onsite proof of certification as a Certified Renovator.</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C8A3DCC0-9ACC-48EF-AA97-C68887749BF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Role of Trained, Non-Certified Renovators</a:t>
            </a:r>
            <a:endParaRPr b="1" lang="en-US" sz="4000" spc="-1" strike="noStrike">
              <a:solidFill>
                <a:srgbClr val="000099"/>
              </a:solidFill>
              <a:latin typeface="Arial"/>
            </a:endParaRPr>
          </a:p>
        </p:txBody>
      </p:sp>
      <p:sp>
        <p:nvSpPr>
          <p:cNvPr id="67" name="PlaceHolder 2"/>
          <p:cNvSpPr>
            <a:spLocks noGrp="1"/>
          </p:cNvSpPr>
          <p:nvPr>
            <p:ph/>
          </p:nvPr>
        </p:nvSpPr>
        <p:spPr>
          <a:xfrm>
            <a:off x="304560" y="1752120"/>
            <a:ext cx="8458200" cy="4496040"/>
          </a:xfrm>
          <a:prstGeom prst="rect">
            <a:avLst/>
          </a:prstGeom>
          <a:noFill/>
          <a:ln w="0">
            <a:noFill/>
          </a:ln>
        </p:spPr>
        <p:txBody>
          <a:bodyPr anchor="t">
            <a:normAutofit fontScale="99000"/>
          </a:bodyPr>
          <a:p>
            <a:pPr marL="339480" indent="-3394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ed, non-certified renovators are persons, working on renovation, repair and painting jobs who have had on-the-job training or similar classroom training from a Certified Renovator to perform tasks in conformance to the EPA RRP Rule.</a:t>
            </a:r>
            <a:endParaRPr b="1" lang="en-US" sz="2400" spc="-1" strike="noStrike">
              <a:solidFill>
                <a:srgbClr val="000099"/>
              </a:solidFill>
              <a:latin typeface="Arial"/>
            </a:endParaRPr>
          </a:p>
          <a:p>
            <a:pPr marL="339480" indent="-3394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y must perform lead-safe work practices as described in the RRP rule.</a:t>
            </a:r>
            <a:endParaRPr b="1" lang="en-US" sz="24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 home by “setting up” the work area.</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mselves.</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form renovation work safely.</a:t>
            </a:r>
            <a:endParaRPr b="0" lang="en-US" sz="2000" spc="-1" strike="noStrike">
              <a:solidFill>
                <a:srgbClr val="000099"/>
              </a:solidFill>
              <a:latin typeface="Arial"/>
            </a:endParaRPr>
          </a:p>
          <a:p>
            <a:pPr lvl="2" marL="1131480" indent="-22608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hibited Practices must not be used.</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ean the work area.</a:t>
            </a:r>
            <a:endParaRPr b="0" lang="en-US" sz="2000" spc="-1" strike="noStrike">
              <a:solidFill>
                <a:srgbClr val="000099"/>
              </a:solidFill>
              <a:latin typeface="Arial"/>
            </a:endParaRPr>
          </a:p>
          <a:p>
            <a:pPr lvl="1" marL="735480" indent="-2829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trol dust and debris.</a:t>
            </a:r>
            <a:endParaRPr b="0" lang="en-US" sz="2000" spc="-1" strike="noStrike">
              <a:solidFill>
                <a:srgbClr val="000099"/>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8A8B75A9-CDA4-48EA-8CC3-0DBB049543F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aching Lead Safety During Renovations – Use the Steps</a:t>
            </a:r>
            <a:endParaRPr b="1" lang="en-US" sz="4000" spc="-1" strike="noStrike">
              <a:solidFill>
                <a:srgbClr val="000099"/>
              </a:solidFill>
              <a:latin typeface="Arial"/>
            </a:endParaRPr>
          </a:p>
        </p:txBody>
      </p:sp>
      <p:sp>
        <p:nvSpPr>
          <p:cNvPr id="71" name="PlaceHolder 2"/>
          <p:cNvSpPr>
            <a:spLocks noGrp="1"/>
          </p:cNvSpPr>
          <p:nvPr>
            <p:ph/>
          </p:nvPr>
        </p:nvSpPr>
        <p:spPr>
          <a:xfrm>
            <a:off x="228240" y="1752120"/>
            <a:ext cx="6553080" cy="487692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Steps to LEAD SAFE Renovation, Repair and Painting</a:t>
            </a:r>
            <a:r>
              <a:rPr b="1" lang="en-US" sz="2800" spc="-1" strike="noStrike">
                <a:solidFill>
                  <a:srgbClr val="000099"/>
                </a:solidFill>
                <a:latin typeface="Arial"/>
              </a:rPr>
              <a:t>  covers basic lead safe practices and can be used as a training guide outside of the classroom in conjunction with on-the-job demonstrations and hands-on trai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t is strongly recommended that you use this guide as a basis for training.</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pic>
        <p:nvPicPr>
          <p:cNvPr id="72" name="Picture 1028" descr="steps brochure cover"/>
          <p:cNvPicPr/>
          <p:nvPr/>
        </p:nvPicPr>
        <p:blipFill>
          <a:blip r:embed="rId1"/>
          <a:stretch/>
        </p:blipFill>
        <p:spPr>
          <a:xfrm>
            <a:off x="6781680" y="1905120"/>
            <a:ext cx="200340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7C728F9D-B32D-4C8F-853C-60468DDD67E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1: Determine If the Job Involves Lead-Based Paint</a:t>
            </a:r>
            <a:endParaRPr b="1" lang="en-US" sz="4000" spc="-1" strike="noStrike">
              <a:solidFill>
                <a:srgbClr val="000099"/>
              </a:solidFill>
              <a:latin typeface="Arial"/>
            </a:endParaRPr>
          </a:p>
        </p:txBody>
      </p:sp>
      <p:sp>
        <p:nvSpPr>
          <p:cNvPr id="76" name="PlaceHolder 2"/>
          <p:cNvSpPr>
            <a:spLocks noGrp="1"/>
          </p:cNvSpPr>
          <p:nvPr>
            <p:ph/>
          </p:nvPr>
        </p:nvSpPr>
        <p:spPr>
          <a:xfrm>
            <a:off x="228600" y="1752120"/>
            <a:ext cx="8686800" cy="4800600"/>
          </a:xfrm>
          <a:prstGeom prst="rect">
            <a:avLst/>
          </a:prstGeom>
          <a:noFill/>
          <a:ln w="0">
            <a:noFill/>
          </a:ln>
        </p:spPr>
        <p:txBody>
          <a:bodyPr anchor="t">
            <a:normAutofit/>
          </a:bodyPr>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based paint (LBP) is found many older homes:</a:t>
            </a:r>
            <a:endParaRPr b="1"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60-1978 homes – 1 in 4 have LBP. </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40-1960 homes – 7 in 10 have LBP.</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1940 homes – 9 in 10 have LBP.</a:t>
            </a:r>
            <a:endParaRPr b="0" lang="en-US" sz="18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novation, repair or painting that disturbs lead-based paint can create significant lead-based paint hazards in hom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ust a little lead-based paint can poison kids and their parents, poison pets, and cause problems for pregnant women and their unborn childre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ertified Renovator will determine if lead-based paint is present on work surfac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If information about lead-based paint is not available for a pre-1978 homes or a child-occupied facility,</a:t>
            </a:r>
            <a:r>
              <a:rPr b="1" lang="en-US" sz="2000" spc="-1" strike="noStrike">
                <a:solidFill>
                  <a:srgbClr val="000099"/>
                </a:solidFill>
                <a:latin typeface="Arial"/>
              </a:rPr>
              <a:t> </a:t>
            </a:r>
            <a:r>
              <a:rPr b="1" lang="en-US" sz="2000" spc="-1" strike="noStrike" u="sng">
                <a:solidFill>
                  <a:srgbClr val="000099"/>
                </a:solidFill>
                <a:uFillTx/>
                <a:latin typeface="Arial"/>
              </a:rPr>
              <a:t>assume that lead-based paint is present and use lead-safe work practices.</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6EF7E9D1-18BF-40A9-A9AE-19893D8F417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2: Set It Up Safely</a:t>
            </a:r>
            <a:endParaRPr b="1" lang="en-US" sz="4000" spc="-1" strike="noStrike">
              <a:solidFill>
                <a:srgbClr val="000099"/>
              </a:solidFill>
              <a:latin typeface="Arial"/>
            </a:endParaRPr>
          </a:p>
        </p:txBody>
      </p:sp>
      <p:sp>
        <p:nvSpPr>
          <p:cNvPr id="80"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used to keep dust IN the work area and non-workers OU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gns and barriers are used to limit acces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side versus outside jobs:</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all procedures and differences in setup.</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5FA07EE6-AF0C-4EAA-B38D-2F2E84FE9D0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3: Protect Yourself</a:t>
            </a:r>
            <a:endParaRPr b="1" lang="en-US" sz="4000" spc="-1" strike="noStrike">
              <a:solidFill>
                <a:srgbClr val="000099"/>
              </a:solidFill>
              <a:latin typeface="Arial"/>
            </a:endParaRPr>
          </a:p>
        </p:txBody>
      </p:sp>
      <p:sp>
        <p:nvSpPr>
          <p:cNvPr id="84" name="PlaceHolder 2"/>
          <p:cNvSpPr>
            <a:spLocks noGrp="1"/>
          </p:cNvSpPr>
          <p:nvPr>
            <p:ph/>
          </p:nvPr>
        </p:nvSpPr>
        <p:spPr>
          <a:xfrm>
            <a:off x="228240" y="1676520"/>
            <a:ext cx="8458200" cy="4876560"/>
          </a:xfrm>
          <a:prstGeom prst="rect">
            <a:avLst/>
          </a:prstGeom>
          <a:noFill/>
          <a:ln w="0">
            <a:noFill/>
          </a:ln>
        </p:spPr>
        <p:txBody>
          <a:bodyPr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thout the right personal protective equipment (PPE) workers can swallow and inhale lead from the job, and </a:t>
            </a:r>
            <a:r>
              <a:rPr b="1" lang="en-US" sz="2400" spc="-1" strike="noStrike">
                <a:solidFill>
                  <a:srgbClr val="00009b"/>
                </a:solidFill>
                <a:latin typeface="Arial"/>
              </a:rPr>
              <a:t>can carry lead on their skin and work clothes home to their families</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the “shopping li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dvise workers to:</a:t>
            </a:r>
            <a:endParaRPr b="1"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Keep clothes clean or use disposable clothin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ar a respirator. The appropriate respirator keeps lead out of your lungs and stomach.</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up each time you leave the work                    area and especially at the end of the                          day.</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81992256-7D87-481D-9FCC-882CFA0F9A8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4: Control the Spread of Dust</a:t>
            </a:r>
            <a:endParaRPr b="1" lang="en-US" sz="4000" spc="-1" strike="noStrike">
              <a:solidFill>
                <a:srgbClr val="000099"/>
              </a:solidFill>
              <a:latin typeface="Arial"/>
            </a:endParaRPr>
          </a:p>
        </p:txBody>
      </p:sp>
      <p:sp>
        <p:nvSpPr>
          <p:cNvPr id="88"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is to control the spread of dust that is create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e the right tool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possible, work we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able plastic drop cloths control the spread of dust and debr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void prohibited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9:00:06Z</dcterms:modified>
  <cp:revision>258</cp:revision>
  <dc:subject/>
  <dc:title>Module 7: Training Non-Certified Renovat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